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0D8-8E46-42FE-91C0-473BBC1F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223-836F-48A1-958C-125BC643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14A-8D43-432A-A7C8-2B8F39D2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A8E-3DDF-45C6-80A0-909554F0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744-BADC-4705-9F16-D0A6A616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7E1-01ED-442B-925A-D411535D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4FAB-6F45-4F7A-BE42-59BB59D2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1D7-82F4-44EA-92E8-DA8A3223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652-9FEE-403B-9F8A-5170E5A8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424-309E-49D8-ADA0-1BA1AD2F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451-9DA5-4D28-BBB9-E3890F8A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EE6-DA9F-4E70-B924-F3A0F717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159F-EF80-4D9B-9B62-07187DBB5F8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NEE</dc:creator>
  <dc:description/>
  <dc:language>en-US</dc:language>
  <cp:lastModifiedBy>Guest</cp:lastModifiedBy>
  <dcterms:modified xsi:type="dcterms:W3CDTF">2012-03-08T12:46:27Z</dcterms:modified>
  <cp:revision>2</cp:revision>
  <dc:subject>CNEE</dc:subject>
  <dc:title>CNEE</dc:title>
</cp:coreProperties>
</file>